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0AF-571C-409D-8B5C-DCC973E9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717-229E-44A1-AC13-4F8D34F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0FD-0D10-4B33-A650-75597B75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AFB-B125-4B42-A70D-40284AD8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A7E-BAB0-4E52-81B4-09C0F3AB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4F7-F201-472A-8C79-0C58925A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BBF-A7B6-441E-A1E3-5296B1E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C90-F45E-4FF1-8B5F-4D3E818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EC9-45EC-4D4B-AC7F-A6EB5F0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000-0F90-4AC8-A71D-2F241CF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52D-2382-4C3D-9DED-0141D59C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D7B-C1F2-4675-89B7-2C815DB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4D74-E101-40FF-92A2-363C84FD8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SIN DE DEPOLLUTION EN GENI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900000" y="2349360"/>
            <a:ext cx="719280" cy="623880"/>
          </a:xfrm>
          <a:custGeom>
            <a:avLst/>
            <a:gdLst>
              <a:gd name="textAreaLeft" fmla="*/ 40320 w 719280"/>
              <a:gd name="textAreaRight" fmla="*/ 678960 w 71928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901" h="21600">
                <a:moveTo>
                  <a:pt x="0" y="0"/>
                </a:moveTo>
                <a:lnTo>
                  <a:pt x="24901" y="0"/>
                </a:lnTo>
                <a:lnTo>
                  <a:pt x="24901" y="21600"/>
                </a:lnTo>
                <a:lnTo>
                  <a:pt x="0" y="21600"/>
                </a:lnTo>
                <a:close/>
              </a:path>
              <a:path fill="lightenLess" w="24901" h="21600">
                <a:moveTo>
                  <a:pt x="0" y="0"/>
                </a:moveTo>
                <a:lnTo>
                  <a:pt x="24901" y="0"/>
                </a:lnTo>
                <a:lnTo>
                  <a:pt x="23501" y="1400"/>
                </a:lnTo>
                <a:lnTo>
                  <a:pt x="1400" y="1400"/>
                </a:lnTo>
                <a:close/>
              </a:path>
              <a:path fill="darken" w="24901" h="21600">
                <a:moveTo>
                  <a:pt x="24901" y="0"/>
                </a:moveTo>
                <a:lnTo>
                  <a:pt x="24901" y="21600"/>
                </a:lnTo>
                <a:lnTo>
                  <a:pt x="23501" y="20200"/>
                </a:lnTo>
                <a:lnTo>
                  <a:pt x="23501" y="1400"/>
                </a:lnTo>
                <a:close/>
              </a:path>
              <a:path fill="darkenLess" w="24901" h="21600">
                <a:moveTo>
                  <a:pt x="24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1" y="20200"/>
                </a:lnTo>
                <a:close/>
              </a:path>
              <a:path fill="lighten" w="24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1" h="21600">
                <a:moveTo>
                  <a:pt x="5444" y="3794"/>
                </a:moveTo>
                <a:lnTo>
                  <a:pt x="19457" y="10800"/>
                </a:lnTo>
                <a:lnTo>
                  <a:pt x="544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4271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t est constitué cet ouvr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900000" y="3440160"/>
            <a:ext cx="719280" cy="623880"/>
          </a:xfrm>
          <a:custGeom>
            <a:avLst/>
            <a:gdLst>
              <a:gd name="textAreaLeft" fmla="*/ 40320 w 719280"/>
              <a:gd name="textAreaRight" fmla="*/ 678960 w 71928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901" h="21600">
                <a:moveTo>
                  <a:pt x="0" y="0"/>
                </a:moveTo>
                <a:lnTo>
                  <a:pt x="24901" y="0"/>
                </a:lnTo>
                <a:lnTo>
                  <a:pt x="24901" y="21600"/>
                </a:lnTo>
                <a:lnTo>
                  <a:pt x="0" y="21600"/>
                </a:lnTo>
                <a:close/>
              </a:path>
              <a:path fill="lightenLess" w="24901" h="21600">
                <a:moveTo>
                  <a:pt x="0" y="0"/>
                </a:moveTo>
                <a:lnTo>
                  <a:pt x="24901" y="0"/>
                </a:lnTo>
                <a:lnTo>
                  <a:pt x="23501" y="1400"/>
                </a:lnTo>
                <a:lnTo>
                  <a:pt x="1400" y="1400"/>
                </a:lnTo>
                <a:close/>
              </a:path>
              <a:path fill="darken" w="24901" h="21600">
                <a:moveTo>
                  <a:pt x="24901" y="0"/>
                </a:moveTo>
                <a:lnTo>
                  <a:pt x="24901" y="21600"/>
                </a:lnTo>
                <a:lnTo>
                  <a:pt x="23501" y="20200"/>
                </a:lnTo>
                <a:lnTo>
                  <a:pt x="23501" y="1400"/>
                </a:lnTo>
                <a:close/>
              </a:path>
              <a:path fill="darkenLess" w="24901" h="21600">
                <a:moveTo>
                  <a:pt x="24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1" y="20200"/>
                </a:lnTo>
                <a:close/>
              </a:path>
              <a:path fill="lighten" w="24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1" h="21600">
                <a:moveTo>
                  <a:pt x="5444" y="3794"/>
                </a:moveTo>
                <a:lnTo>
                  <a:pt x="19457" y="10800"/>
                </a:lnTo>
                <a:lnTo>
                  <a:pt x="544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34941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t fonctionne cet ouvr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546440"/>
            <a:ext cx="360360" cy="466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66920"/>
              <a:gd name="textAreaBottom" fmla="*/ 443880 h 466920"/>
            </a:gdLst>
            <a:ahLst/>
            <a:rect l="textAreaLeft" t="textAreaTop" r="textAreaRight" b="textAreaBottom"/>
            <a:pathLst>
              <a:path w="21600" h="27981">
                <a:moveTo>
                  <a:pt x="0" y="0"/>
                </a:moveTo>
                <a:lnTo>
                  <a:pt x="21600" y="0"/>
                </a:lnTo>
                <a:lnTo>
                  <a:pt x="21600" y="27981"/>
                </a:lnTo>
                <a:lnTo>
                  <a:pt x="0" y="27981"/>
                </a:lnTo>
                <a:close/>
              </a:path>
              <a:path fill="lightenLess" w="21600" h="279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81">
                <a:moveTo>
                  <a:pt x="21600" y="0"/>
                </a:moveTo>
                <a:lnTo>
                  <a:pt x="21600" y="27981"/>
                </a:lnTo>
                <a:lnTo>
                  <a:pt x="20200" y="26581"/>
                </a:lnTo>
                <a:lnTo>
                  <a:pt x="20200" y="1400"/>
                </a:lnTo>
                <a:close/>
              </a:path>
              <a:path fill="darkenLess" w="21600" h="27981">
                <a:moveTo>
                  <a:pt x="21600" y="27981"/>
                </a:moveTo>
                <a:lnTo>
                  <a:pt x="0" y="27981"/>
                </a:lnTo>
                <a:lnTo>
                  <a:pt x="1400" y="26581"/>
                </a:lnTo>
                <a:lnTo>
                  <a:pt x="20200" y="26581"/>
                </a:lnTo>
                <a:close/>
              </a:path>
              <a:path fill="lighten" w="21600" h="27981">
                <a:moveTo>
                  <a:pt x="0" y="279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81"/>
                </a:lnTo>
                <a:close/>
              </a:path>
              <a:path fill="darken" w="21600" h="27981">
                <a:moveTo>
                  <a:pt x="10800" y="698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981">
                <a:moveTo>
                  <a:pt x="10800" y="735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981">
                <a:moveTo>
                  <a:pt x="8224" y="11414"/>
                </a:moveTo>
                <a:lnTo>
                  <a:pt x="12088" y="11414"/>
                </a:lnTo>
                <a:lnTo>
                  <a:pt x="12088" y="18412"/>
                </a:lnTo>
                <a:lnTo>
                  <a:pt x="13376" y="18412"/>
                </a:lnTo>
                <a:lnTo>
                  <a:pt x="13376" y="19334"/>
                </a:lnTo>
                <a:lnTo>
                  <a:pt x="8224" y="19334"/>
                </a:lnTo>
                <a:lnTo>
                  <a:pt x="8224" y="18412"/>
                </a:lnTo>
                <a:lnTo>
                  <a:pt x="9512" y="18412"/>
                </a:lnTo>
                <a:lnTo>
                  <a:pt x="9512" y="12319"/>
                </a:lnTo>
                <a:lnTo>
                  <a:pt x="8224" y="1231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5267160"/>
            <a:ext cx="360360" cy="466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66920"/>
              <a:gd name="textAreaBottom" fmla="*/ 443880 h 466920"/>
            </a:gdLst>
            <a:ahLst/>
            <a:rect l="textAreaLeft" t="textAreaTop" r="textAreaRight" b="textAreaBottom"/>
            <a:pathLst>
              <a:path w="21600" h="27981">
                <a:moveTo>
                  <a:pt x="0" y="0"/>
                </a:moveTo>
                <a:lnTo>
                  <a:pt x="21600" y="0"/>
                </a:lnTo>
                <a:lnTo>
                  <a:pt x="21600" y="27981"/>
                </a:lnTo>
                <a:lnTo>
                  <a:pt x="0" y="27981"/>
                </a:lnTo>
                <a:close/>
              </a:path>
              <a:path fill="lightenLess" w="21600" h="279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81">
                <a:moveTo>
                  <a:pt x="21600" y="0"/>
                </a:moveTo>
                <a:lnTo>
                  <a:pt x="21600" y="27981"/>
                </a:lnTo>
                <a:lnTo>
                  <a:pt x="20200" y="26581"/>
                </a:lnTo>
                <a:lnTo>
                  <a:pt x="20200" y="1400"/>
                </a:lnTo>
                <a:close/>
              </a:path>
              <a:path fill="darkenLess" w="21600" h="27981">
                <a:moveTo>
                  <a:pt x="21600" y="27981"/>
                </a:moveTo>
                <a:lnTo>
                  <a:pt x="0" y="27981"/>
                </a:lnTo>
                <a:lnTo>
                  <a:pt x="1400" y="26581"/>
                </a:lnTo>
                <a:lnTo>
                  <a:pt x="20200" y="26581"/>
                </a:lnTo>
                <a:close/>
              </a:path>
              <a:path fill="lighten" w="21600" h="27981">
                <a:moveTo>
                  <a:pt x="0" y="279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81"/>
                </a:lnTo>
                <a:close/>
              </a:path>
              <a:path fill="darken" w="21600" h="27981">
                <a:moveTo>
                  <a:pt x="10800" y="698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981">
                <a:moveTo>
                  <a:pt x="10800" y="735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981">
                <a:moveTo>
                  <a:pt x="8224" y="11414"/>
                </a:moveTo>
                <a:lnTo>
                  <a:pt x="12088" y="11414"/>
                </a:lnTo>
                <a:lnTo>
                  <a:pt x="12088" y="18412"/>
                </a:lnTo>
                <a:lnTo>
                  <a:pt x="13376" y="18412"/>
                </a:lnTo>
                <a:lnTo>
                  <a:pt x="13376" y="19334"/>
                </a:lnTo>
                <a:lnTo>
                  <a:pt x="8224" y="19334"/>
                </a:lnTo>
                <a:lnTo>
                  <a:pt x="8224" y="18412"/>
                </a:lnTo>
                <a:lnTo>
                  <a:pt x="9512" y="18412"/>
                </a:lnTo>
                <a:lnTo>
                  <a:pt x="9512" y="12319"/>
                </a:lnTo>
                <a:lnTo>
                  <a:pt x="8224" y="1231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458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décanteur lamel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3672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écrémeur et le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10800000">
            <a:off x="4427280" y="5516640"/>
            <a:ext cx="1439640" cy="28728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30064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age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anteur +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59640" y="7650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 rot="1903800">
            <a:off x="1907640" y="836280"/>
            <a:ext cx="160560" cy="206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5157720"/>
            <a:ext cx="525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77000"/>
            <a:ext cx="304920" cy="216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920" y="5877000"/>
            <a:ext cx="306360" cy="216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157720"/>
            <a:ext cx="1944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1120" y="5175360"/>
            <a:ext cx="633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84720" y="5157000"/>
            <a:ext cx="358560" cy="17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769480" y="6622920"/>
            <a:ext cx="289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904400">
            <a:off x="539280" y="5541480"/>
            <a:ext cx="142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08000" y="5375160"/>
            <a:ext cx="360" cy="6717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908000" y="5373720"/>
            <a:ext cx="935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908000" y="6046920"/>
            <a:ext cx="648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059280" y="6236640"/>
            <a:ext cx="360" cy="3855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71640" y="5616000"/>
            <a:ext cx="360" cy="1006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58560" y="6262560"/>
            <a:ext cx="1152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5681520"/>
            <a:ext cx="360" cy="339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55280" y="5661000"/>
            <a:ext cx="215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03280" y="4276080"/>
            <a:ext cx="360" cy="8809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189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sin de sto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620640"/>
            <a:ext cx="144360" cy="3095640"/>
          </a:xfrm>
          <a:prstGeom prst="downArrow">
            <a:avLst>
              <a:gd name="adj1" fmla="val 50000"/>
              <a:gd name="adj2" fmla="val 536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56000" y="4507920"/>
            <a:ext cx="360" cy="649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4356000"/>
            <a:ext cx="360" cy="819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356000"/>
            <a:ext cx="414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56000"/>
            <a:ext cx="360" cy="819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4365720"/>
            <a:ext cx="71640" cy="792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03680" y="4356000"/>
            <a:ext cx="615960" cy="9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7480" y="189000"/>
            <a:ext cx="27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sin de déca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29908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sé en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744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124000" y="1484280"/>
            <a:ext cx="19432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148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05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vo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81400" y="516564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97400" y="516492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1484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292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bres et canal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5280" y="27748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1484280"/>
            <a:ext cx="144144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620640"/>
            <a:ext cx="144360" cy="2376720"/>
          </a:xfrm>
          <a:prstGeom prst="downArrow">
            <a:avLst>
              <a:gd name="adj1" fmla="val 50000"/>
              <a:gd name="adj2" fmla="val 4115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770200"/>
            <a:ext cx="806436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REALISATION D’UN BASSIN DEPOLLUEUR EN GENIE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005360"/>
            <a:ext cx="360" cy="144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2276640"/>
            <a:ext cx="360" cy="144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565360"/>
            <a:ext cx="2376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71640" y="2276640"/>
            <a:ext cx="410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133720"/>
            <a:ext cx="21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pets anti-re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62200" y="2205000"/>
            <a:ext cx="2305080" cy="1871640"/>
            <a:chOff x="3562200" y="2205000"/>
            <a:chExt cx="2305080" cy="1871640"/>
          </a:xfrm>
        </p:grpSpPr>
        <p:sp>
          <p:nvSpPr>
            <p:cNvPr id="100" name=""/>
            <p:cNvSpPr/>
            <p:nvPr/>
          </p:nvSpPr>
          <p:spPr>
            <a:xfrm>
              <a:off x="3562200" y="3933720"/>
              <a:ext cx="576360" cy="14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90920" y="2205000"/>
              <a:ext cx="576360" cy="14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>
            <a:off x="2842560" y="4581360"/>
            <a:ext cx="360" cy="79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42560" y="4581360"/>
            <a:ext cx="1368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581360"/>
            <a:ext cx="360" cy="1681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08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132000" y="5013360"/>
            <a:ext cx="72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H="1" flipV="1" rot="1903800">
            <a:off x="1906920" y="845280"/>
            <a:ext cx="160560" cy="20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9976800">
            <a:off x="4427640" y="5661000"/>
            <a:ext cx="1728720" cy="216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9440" y="522936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age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anteur +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771640" y="5661000"/>
            <a:ext cx="1440000" cy="863280"/>
            <a:chOff x="2771640" y="5661000"/>
            <a:chExt cx="1440000" cy="863280"/>
          </a:xfrm>
        </p:grpSpPr>
        <p:sp>
          <p:nvSpPr>
            <p:cNvPr id="113" name=""/>
            <p:cNvSpPr/>
            <p:nvPr/>
          </p:nvSpPr>
          <p:spPr>
            <a:xfrm>
              <a:off x="2771640" y="5661000"/>
              <a:ext cx="1440000" cy="617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1640" y="6278400"/>
              <a:ext cx="287640" cy="24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6659640" y="7650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60" y="5157720"/>
            <a:ext cx="5327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5876640"/>
            <a:ext cx="610920" cy="216000"/>
            <a:chOff x="0" y="5876640"/>
            <a:chExt cx="610920" cy="216000"/>
          </a:xfrm>
        </p:grpSpPr>
        <p:sp>
          <p:nvSpPr>
            <p:cNvPr id="118" name=""/>
            <p:cNvSpPr/>
            <p:nvPr/>
          </p:nvSpPr>
          <p:spPr>
            <a:xfrm>
              <a:off x="0" y="5877000"/>
              <a:ext cx="30384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3840" y="5876280"/>
              <a:ext cx="30708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332000" y="5157720"/>
            <a:ext cx="1944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1120" y="5175360"/>
            <a:ext cx="633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84720" y="5157000"/>
            <a:ext cx="358560" cy="17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69480" y="6622920"/>
            <a:ext cx="289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 rot="1904400">
            <a:off x="539280" y="5541480"/>
            <a:ext cx="142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8000" y="5375160"/>
            <a:ext cx="360" cy="6717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08000" y="5373720"/>
            <a:ext cx="935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08000" y="6046920"/>
            <a:ext cx="648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59280" y="6236640"/>
            <a:ext cx="360" cy="3855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71640" y="5616000"/>
            <a:ext cx="360" cy="1006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58560" y="6262560"/>
            <a:ext cx="1152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5661000"/>
            <a:ext cx="64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5681520"/>
            <a:ext cx="360" cy="339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55280" y="5661000"/>
            <a:ext cx="215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403280" y="4276080"/>
            <a:ext cx="360" cy="8809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4328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58136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67640" y="5445000"/>
            <a:ext cx="790920" cy="360360"/>
          </a:xfrm>
          <a:custGeom>
            <a:avLst/>
            <a:gdLst>
              <a:gd name="textAreaLeft" fmla="*/ 138240 w 790920"/>
              <a:gd name="textAreaRight" fmla="*/ 573480 w 7909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8920" y="5589360"/>
            <a:ext cx="2521440" cy="1271880"/>
            <a:chOff x="178920" y="5589360"/>
            <a:chExt cx="2521440" cy="1271880"/>
          </a:xfrm>
        </p:grpSpPr>
        <p:sp>
          <p:nvSpPr>
            <p:cNvPr id="140" name=""/>
            <p:cNvSpPr/>
            <p:nvPr/>
          </p:nvSpPr>
          <p:spPr>
            <a:xfrm rot="10800000">
              <a:off x="468000" y="5589360"/>
              <a:ext cx="934920" cy="1429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-24120" y="6153120"/>
              <a:ext cx="647640" cy="241560"/>
            </a:xfrm>
            <a:custGeom>
              <a:avLst/>
              <a:gdLst>
                <a:gd name="textAreaLeft" fmla="*/ 101160 w 647640"/>
                <a:gd name="textAreaRight" fmla="*/ 567000 w 64764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360" y="6075720"/>
              <a:ext cx="2232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aux trait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(rejet en Se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81400" y="516564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97400" y="516492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951640" y="5696640"/>
            <a:ext cx="934920" cy="1429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4720" y="4941720"/>
            <a:ext cx="17272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56000" y="4507920"/>
            <a:ext cx="360" cy="649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581360"/>
            <a:ext cx="2087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643280" y="4356000"/>
            <a:ext cx="728640" cy="819360"/>
            <a:chOff x="4643280" y="4356000"/>
            <a:chExt cx="728640" cy="819360"/>
          </a:xfrm>
        </p:grpSpPr>
        <p:sp>
          <p:nvSpPr>
            <p:cNvPr id="150" name=""/>
            <p:cNvSpPr/>
            <p:nvPr/>
          </p:nvSpPr>
          <p:spPr>
            <a:xfrm flipV="1">
              <a:off x="46432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3280" y="4356000"/>
              <a:ext cx="414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46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0640" y="4365720"/>
              <a:ext cx="71280" cy="792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4680" y="4356000"/>
              <a:ext cx="615960" cy="97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16000" y="1771560"/>
            <a:ext cx="2663640" cy="2233440"/>
            <a:chOff x="2916000" y="1771560"/>
            <a:chExt cx="2663640" cy="2233440"/>
          </a:xfrm>
        </p:grpSpPr>
        <p:sp>
          <p:nvSpPr>
            <p:cNvPr id="156" name=""/>
            <p:cNvSpPr/>
            <p:nvPr/>
          </p:nvSpPr>
          <p:spPr>
            <a:xfrm flipH="1">
              <a:off x="2915640" y="3789360"/>
              <a:ext cx="647640" cy="21564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636360" y="3068640"/>
              <a:ext cx="647640" cy="21564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284000" y="2420640"/>
              <a:ext cx="647640" cy="21600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931640" y="1771560"/>
              <a:ext cx="647640" cy="21600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1557360"/>
            <a:ext cx="3240000" cy="2735280"/>
            <a:chOff x="3419640" y="1557360"/>
            <a:chExt cx="3240000" cy="2735280"/>
          </a:xfrm>
        </p:grpSpPr>
        <p:sp>
          <p:nvSpPr>
            <p:cNvPr id="161" name=""/>
            <p:cNvSpPr/>
            <p:nvPr/>
          </p:nvSpPr>
          <p:spPr>
            <a:xfrm>
              <a:off x="3419640" y="4149720"/>
              <a:ext cx="576000" cy="142920"/>
            </a:xfrm>
            <a:custGeom>
              <a:avLst/>
              <a:gdLst>
                <a:gd name="textAreaLeft" fmla="*/ 90000 w 576000"/>
                <a:gd name="textAreaRight" fmla="*/ 504000 w 57600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3280" y="1557360"/>
              <a:ext cx="576360" cy="14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203640" y="4221000"/>
            <a:ext cx="360" cy="144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628640"/>
            <a:ext cx="360" cy="144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348000" y="1484280"/>
            <a:ext cx="3672000" cy="3816360"/>
            <a:chOff x="3348000" y="1484280"/>
            <a:chExt cx="3672000" cy="3816360"/>
          </a:xfrm>
        </p:grpSpPr>
        <p:sp>
          <p:nvSpPr>
            <p:cNvPr id="166" name=""/>
            <p:cNvSpPr/>
            <p:nvPr/>
          </p:nvSpPr>
          <p:spPr>
            <a:xfrm>
              <a:off x="6804000" y="1484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8000" y="508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3059280" y="5011560"/>
            <a:ext cx="72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765520"/>
            <a:ext cx="8713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EMINEMENT DES EAUX PLUV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4360" y="836640"/>
            <a:ext cx="4356360" cy="512640"/>
            <a:chOff x="144360" y="836640"/>
            <a:chExt cx="4356360" cy="512640"/>
          </a:xfrm>
        </p:grpSpPr>
        <p:sp>
          <p:nvSpPr>
            <p:cNvPr id="171" name=""/>
            <p:cNvSpPr/>
            <p:nvPr/>
          </p:nvSpPr>
          <p:spPr>
            <a:xfrm>
              <a:off x="144360" y="98100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ux pluv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973080" y="836640"/>
              <a:ext cx="3527640" cy="217440"/>
              <a:chOff x="973080" y="836640"/>
              <a:chExt cx="3527640" cy="217440"/>
            </a:xfrm>
          </p:grpSpPr>
          <p:sp>
            <p:nvSpPr>
              <p:cNvPr id="173" name=""/>
              <p:cNvSpPr/>
              <p:nvPr/>
            </p:nvSpPr>
            <p:spPr>
              <a:xfrm>
                <a:off x="3565440" y="909720"/>
                <a:ext cx="935280" cy="71280"/>
              </a:xfrm>
              <a:custGeom>
                <a:avLst/>
                <a:gdLst>
                  <a:gd name="textAreaLeft" fmla="*/ 146160 w 935280"/>
                  <a:gd name="textAreaRight" fmla="*/ 818640 w 935280"/>
                  <a:gd name="textAreaTop" fmla="*/ 17640 h 71280"/>
                  <a:gd name="textAreaBottom" fmla="*/ 53640 h 7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73080" y="836640"/>
                <a:ext cx="934920" cy="217440"/>
              </a:xfrm>
              <a:custGeom>
                <a:avLst/>
                <a:gdLst>
                  <a:gd name="textAreaLeft" fmla="*/ 145800 w 934920"/>
                  <a:gd name="textAreaRight" fmla="*/ 818280 w 934920"/>
                  <a:gd name="textAreaTop" fmla="*/ 54360 h 217440"/>
                  <a:gd name="textAreaBottom" fmla="*/ 163080 h 2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3492360" y="2701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R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144360" cy="1657440"/>
          </a:xfrm>
          <a:prstGeom prst="downArrow">
            <a:avLst>
              <a:gd name="adj1" fmla="val 50000"/>
              <a:gd name="adj2" fmla="val 287032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2125800"/>
            <a:ext cx="317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sidus de la déca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842560" y="4581360"/>
            <a:ext cx="360" cy="79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42560" y="4581360"/>
            <a:ext cx="1368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4581360"/>
            <a:ext cx="360" cy="1681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755880" y="4005360"/>
            <a:ext cx="5208840" cy="1753560"/>
            <a:chOff x="3755880" y="4005360"/>
            <a:chExt cx="5208840" cy="1753560"/>
          </a:xfrm>
        </p:grpSpPr>
        <p:sp>
          <p:nvSpPr>
            <p:cNvPr id="182" name=""/>
            <p:cNvSpPr/>
            <p:nvPr/>
          </p:nvSpPr>
          <p:spPr>
            <a:xfrm rot="9551400">
              <a:off x="3687120" y="4966920"/>
              <a:ext cx="3281400" cy="216000"/>
            </a:xfrm>
            <a:custGeom>
              <a:avLst/>
              <a:gdLst>
                <a:gd name="textAreaLeft" fmla="*/ 512640 w 3281400"/>
                <a:gd name="textAreaRight" fmla="*/ 2871360 w 32814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7080" y="40053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aptage des huiles et hydrocarb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987640" y="692280"/>
            <a:ext cx="360720" cy="576000"/>
            <a:chOff x="2987640" y="692280"/>
            <a:chExt cx="360720" cy="576000"/>
          </a:xfrm>
        </p:grpSpPr>
        <p:sp>
          <p:nvSpPr>
            <p:cNvPr id="185" name=""/>
            <p:cNvSpPr/>
            <p:nvPr/>
          </p:nvSpPr>
          <p:spPr>
            <a:xfrm>
              <a:off x="298764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0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200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364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800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47640" y="189000"/>
            <a:ext cx="2738160" cy="3527280"/>
            <a:chOff x="1547640" y="189000"/>
            <a:chExt cx="2738160" cy="3527280"/>
          </a:xfrm>
        </p:grpSpPr>
        <p:sp>
          <p:nvSpPr>
            <p:cNvPr id="192" name=""/>
            <p:cNvSpPr/>
            <p:nvPr/>
          </p:nvSpPr>
          <p:spPr>
            <a:xfrm>
              <a:off x="1547640" y="189000"/>
              <a:ext cx="27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000" y="620640"/>
              <a:ext cx="144360" cy="3095640"/>
            </a:xfrm>
            <a:prstGeom prst="downArrow">
              <a:avLst>
                <a:gd name="adj1" fmla="val 50000"/>
                <a:gd name="adj2" fmla="val 53609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497480" y="189000"/>
            <a:ext cx="2738520" cy="2808360"/>
            <a:chOff x="4497480" y="189000"/>
            <a:chExt cx="2738520" cy="2808360"/>
          </a:xfrm>
        </p:grpSpPr>
        <p:sp>
          <p:nvSpPr>
            <p:cNvPr id="195" name=""/>
            <p:cNvSpPr/>
            <p:nvPr/>
          </p:nvSpPr>
          <p:spPr>
            <a:xfrm>
              <a:off x="4497480" y="189000"/>
              <a:ext cx="27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déca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1640" y="620640"/>
              <a:ext cx="144360" cy="2376720"/>
            </a:xfrm>
            <a:prstGeom prst="downArrow">
              <a:avLst>
                <a:gd name="adj1" fmla="val 50000"/>
                <a:gd name="adj2" fmla="val 4115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2050920" y="98064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00" y="155736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ture des gros élé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659640" y="6093000"/>
            <a:ext cx="503280" cy="549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61">
                <a:moveTo>
                  <a:pt x="0" y="0"/>
                </a:moveTo>
                <a:lnTo>
                  <a:pt x="21600" y="0"/>
                </a:lnTo>
                <a:lnTo>
                  <a:pt x="21600" y="23561"/>
                </a:lnTo>
                <a:lnTo>
                  <a:pt x="0" y="23561"/>
                </a:lnTo>
                <a:close/>
              </a:path>
              <a:path fill="lightenLess" w="21600" h="235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1">
                <a:moveTo>
                  <a:pt x="21600" y="0"/>
                </a:moveTo>
                <a:lnTo>
                  <a:pt x="21600" y="23561"/>
                </a:lnTo>
                <a:lnTo>
                  <a:pt x="20200" y="22161"/>
                </a:lnTo>
                <a:lnTo>
                  <a:pt x="20200" y="1400"/>
                </a:lnTo>
                <a:close/>
              </a:path>
              <a:path fill="darkenLess" w="21600" h="23561">
                <a:moveTo>
                  <a:pt x="21600" y="23561"/>
                </a:moveTo>
                <a:lnTo>
                  <a:pt x="0" y="23561"/>
                </a:lnTo>
                <a:lnTo>
                  <a:pt x="1400" y="22161"/>
                </a:lnTo>
                <a:lnTo>
                  <a:pt x="20200" y="22161"/>
                </a:lnTo>
                <a:close/>
              </a:path>
              <a:path fill="lighten" w="21600" h="23561">
                <a:moveTo>
                  <a:pt x="0" y="235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1"/>
                </a:lnTo>
                <a:close/>
              </a:path>
              <a:path fill="darkenLess" w="21600" h="23561">
                <a:moveTo>
                  <a:pt x="5273" y="4965"/>
                </a:moveTo>
                <a:lnTo>
                  <a:pt x="12271" y="4965"/>
                </a:lnTo>
                <a:lnTo>
                  <a:pt x="16327" y="8464"/>
                </a:lnTo>
                <a:lnTo>
                  <a:pt x="16327" y="18595"/>
                </a:lnTo>
                <a:lnTo>
                  <a:pt x="5273" y="18595"/>
                </a:lnTo>
                <a:close/>
              </a:path>
              <a:path fill="darken" w="21600" h="23561">
                <a:moveTo>
                  <a:pt x="12271" y="4965"/>
                </a:moveTo>
                <a:lnTo>
                  <a:pt x="16327" y="8464"/>
                </a:lnTo>
                <a:lnTo>
                  <a:pt x="12271" y="846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7956720" y="6093000"/>
            <a:ext cx="502920" cy="549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78">
                <a:moveTo>
                  <a:pt x="0" y="0"/>
                </a:moveTo>
                <a:lnTo>
                  <a:pt x="21600" y="0"/>
                </a:lnTo>
                <a:lnTo>
                  <a:pt x="21600" y="23578"/>
                </a:lnTo>
                <a:lnTo>
                  <a:pt x="0" y="23578"/>
                </a:lnTo>
                <a:close/>
              </a:path>
              <a:path fill="lightenLess" w="21600" h="23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8">
                <a:moveTo>
                  <a:pt x="21600" y="0"/>
                </a:moveTo>
                <a:lnTo>
                  <a:pt x="21600" y="23578"/>
                </a:lnTo>
                <a:lnTo>
                  <a:pt x="20200" y="22178"/>
                </a:lnTo>
                <a:lnTo>
                  <a:pt x="20200" y="1400"/>
                </a:lnTo>
                <a:close/>
              </a:path>
              <a:path fill="darkenLess" w="21600" h="23578">
                <a:moveTo>
                  <a:pt x="21600" y="23578"/>
                </a:moveTo>
                <a:lnTo>
                  <a:pt x="0" y="23578"/>
                </a:lnTo>
                <a:lnTo>
                  <a:pt x="1400" y="22178"/>
                </a:lnTo>
                <a:lnTo>
                  <a:pt x="20200" y="22178"/>
                </a:lnTo>
                <a:close/>
              </a:path>
              <a:path fill="lighten" w="21600" h="23578">
                <a:moveTo>
                  <a:pt x="0" y="23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8"/>
                </a:lnTo>
                <a:close/>
              </a:path>
              <a:path fill="darkenLess" w="21600" h="23578">
                <a:moveTo>
                  <a:pt x="5273" y="4974"/>
                </a:moveTo>
                <a:lnTo>
                  <a:pt x="12271" y="4974"/>
                </a:lnTo>
                <a:lnTo>
                  <a:pt x="16327" y="8473"/>
                </a:lnTo>
                <a:lnTo>
                  <a:pt x="16327" y="18604"/>
                </a:lnTo>
                <a:lnTo>
                  <a:pt x="5273" y="18604"/>
                </a:lnTo>
                <a:close/>
              </a:path>
              <a:path fill="darken" w="21600" h="23578">
                <a:moveTo>
                  <a:pt x="12271" y="4974"/>
                </a:moveTo>
                <a:lnTo>
                  <a:pt x="16327" y="8473"/>
                </a:lnTo>
                <a:lnTo>
                  <a:pt x="12271" y="847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6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evt="end">
                                        <p:tn val="726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H="1" flipV="1" rot="1903800">
            <a:off x="1906920" y="845280"/>
            <a:ext cx="160560" cy="20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9976800">
            <a:off x="4427640" y="5661000"/>
            <a:ext cx="1728720" cy="216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9440" y="522936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age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anteur +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659640" y="7650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60" y="5157720"/>
            <a:ext cx="5327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5876640"/>
            <a:ext cx="610920" cy="216000"/>
            <a:chOff x="0" y="5876640"/>
            <a:chExt cx="610920" cy="216000"/>
          </a:xfrm>
        </p:grpSpPr>
        <p:sp>
          <p:nvSpPr>
            <p:cNvPr id="209" name=""/>
            <p:cNvSpPr/>
            <p:nvPr/>
          </p:nvSpPr>
          <p:spPr>
            <a:xfrm>
              <a:off x="0" y="5877000"/>
              <a:ext cx="30384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3840" y="5876280"/>
              <a:ext cx="30708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32000" y="5157720"/>
            <a:ext cx="1944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51120" y="5175360"/>
            <a:ext cx="633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284720" y="5157000"/>
            <a:ext cx="358560" cy="17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69480" y="6622920"/>
            <a:ext cx="289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904400">
            <a:off x="539280" y="5541480"/>
            <a:ext cx="142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08000" y="5375160"/>
            <a:ext cx="360" cy="6717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08000" y="5373720"/>
            <a:ext cx="935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08000" y="6046920"/>
            <a:ext cx="648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59280" y="6236640"/>
            <a:ext cx="360" cy="3855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71640" y="5616000"/>
            <a:ext cx="360" cy="1006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58560" y="6262560"/>
            <a:ext cx="1152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5681520"/>
            <a:ext cx="360" cy="339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555280" y="5661000"/>
            <a:ext cx="215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403280" y="4276080"/>
            <a:ext cx="360" cy="8809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64328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8920" y="5589360"/>
            <a:ext cx="2521440" cy="1271880"/>
            <a:chOff x="178920" y="5589360"/>
            <a:chExt cx="2521440" cy="1271880"/>
          </a:xfrm>
        </p:grpSpPr>
        <p:sp>
          <p:nvSpPr>
            <p:cNvPr id="228" name=""/>
            <p:cNvSpPr/>
            <p:nvPr/>
          </p:nvSpPr>
          <p:spPr>
            <a:xfrm rot="10800000">
              <a:off x="468000" y="5589360"/>
              <a:ext cx="934920" cy="1429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-24120" y="6153120"/>
              <a:ext cx="647640" cy="241560"/>
            </a:xfrm>
            <a:custGeom>
              <a:avLst/>
              <a:gdLst>
                <a:gd name="textAreaLeft" fmla="*/ 101160 w 647640"/>
                <a:gd name="textAreaRight" fmla="*/ 567000 w 64764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075720"/>
              <a:ext cx="2232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aux trait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(rejet en Se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281400" y="516564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497400" y="516492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56000" y="4507920"/>
            <a:ext cx="360" cy="649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3280" y="4356000"/>
            <a:ext cx="728640" cy="819360"/>
            <a:chOff x="4643280" y="4356000"/>
            <a:chExt cx="728640" cy="819360"/>
          </a:xfrm>
        </p:grpSpPr>
        <p:sp>
          <p:nvSpPr>
            <p:cNvPr id="235" name=""/>
            <p:cNvSpPr/>
            <p:nvPr/>
          </p:nvSpPr>
          <p:spPr>
            <a:xfrm flipV="1">
              <a:off x="46432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3280" y="4356000"/>
              <a:ext cx="414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46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0640" y="4365720"/>
              <a:ext cx="71280" cy="792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4680" y="4356000"/>
              <a:ext cx="615960" cy="97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348000" y="1484280"/>
            <a:ext cx="3672000" cy="3816360"/>
            <a:chOff x="3348000" y="1484280"/>
            <a:chExt cx="3672000" cy="3816360"/>
          </a:xfrm>
        </p:grpSpPr>
        <p:sp>
          <p:nvSpPr>
            <p:cNvPr id="241" name=""/>
            <p:cNvSpPr/>
            <p:nvPr/>
          </p:nvSpPr>
          <p:spPr>
            <a:xfrm>
              <a:off x="6804000" y="1484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48000" y="508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3059280" y="5011560"/>
            <a:ext cx="72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4360" y="836640"/>
            <a:ext cx="4356360" cy="512640"/>
            <a:chOff x="144360" y="836640"/>
            <a:chExt cx="4356360" cy="512640"/>
          </a:xfrm>
        </p:grpSpPr>
        <p:sp>
          <p:nvSpPr>
            <p:cNvPr id="245" name=""/>
            <p:cNvSpPr/>
            <p:nvPr/>
          </p:nvSpPr>
          <p:spPr>
            <a:xfrm>
              <a:off x="144360" y="98100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ux pluv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973080" y="836640"/>
              <a:ext cx="3527640" cy="217440"/>
              <a:chOff x="973080" y="836640"/>
              <a:chExt cx="3527640" cy="217440"/>
            </a:xfrm>
          </p:grpSpPr>
          <p:sp>
            <p:nvSpPr>
              <p:cNvPr id="247" name=""/>
              <p:cNvSpPr/>
              <p:nvPr/>
            </p:nvSpPr>
            <p:spPr>
              <a:xfrm>
                <a:off x="3565440" y="909720"/>
                <a:ext cx="935280" cy="71280"/>
              </a:xfrm>
              <a:custGeom>
                <a:avLst/>
                <a:gdLst>
                  <a:gd name="textAreaLeft" fmla="*/ 146160 w 935280"/>
                  <a:gd name="textAreaRight" fmla="*/ 818640 w 935280"/>
                  <a:gd name="textAreaTop" fmla="*/ 17640 h 71280"/>
                  <a:gd name="textAreaBottom" fmla="*/ 53640 h 7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73080" y="836640"/>
                <a:ext cx="934920" cy="217440"/>
              </a:xfrm>
              <a:custGeom>
                <a:avLst/>
                <a:gdLst>
                  <a:gd name="textAreaLeft" fmla="*/ 145800 w 934920"/>
                  <a:gd name="textAreaRight" fmla="*/ 818280 w 934920"/>
                  <a:gd name="textAreaTop" fmla="*/ 54360 h 217440"/>
                  <a:gd name="textAreaBottom" fmla="*/ 163080 h 2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 flipH="1">
            <a:off x="2842560" y="4581360"/>
            <a:ext cx="360" cy="79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842560" y="4581360"/>
            <a:ext cx="1368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581360"/>
            <a:ext cx="360" cy="1681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987640" y="692280"/>
            <a:ext cx="360720" cy="576000"/>
            <a:chOff x="2987640" y="692280"/>
            <a:chExt cx="360720" cy="576000"/>
          </a:xfrm>
        </p:grpSpPr>
        <p:sp>
          <p:nvSpPr>
            <p:cNvPr id="253" name=""/>
            <p:cNvSpPr/>
            <p:nvPr/>
          </p:nvSpPr>
          <p:spPr>
            <a:xfrm>
              <a:off x="298764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60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200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364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800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47640" y="189000"/>
            <a:ext cx="2738160" cy="3527280"/>
            <a:chOff x="1547640" y="189000"/>
            <a:chExt cx="2738160" cy="3527280"/>
          </a:xfrm>
        </p:grpSpPr>
        <p:sp>
          <p:nvSpPr>
            <p:cNvPr id="260" name=""/>
            <p:cNvSpPr/>
            <p:nvPr/>
          </p:nvSpPr>
          <p:spPr>
            <a:xfrm>
              <a:off x="1547640" y="189000"/>
              <a:ext cx="27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00000" y="620640"/>
              <a:ext cx="144360" cy="3095640"/>
            </a:xfrm>
            <a:prstGeom prst="downArrow">
              <a:avLst>
                <a:gd name="adj1" fmla="val 50000"/>
                <a:gd name="adj2" fmla="val 53609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497480" y="189000"/>
            <a:ext cx="2738520" cy="2808360"/>
            <a:chOff x="4497480" y="189000"/>
            <a:chExt cx="2738520" cy="2808360"/>
          </a:xfrm>
        </p:grpSpPr>
        <p:sp>
          <p:nvSpPr>
            <p:cNvPr id="263" name=""/>
            <p:cNvSpPr/>
            <p:nvPr/>
          </p:nvSpPr>
          <p:spPr>
            <a:xfrm>
              <a:off x="4497480" y="189000"/>
              <a:ext cx="27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déca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1640" y="620640"/>
              <a:ext cx="144360" cy="2376720"/>
            </a:xfrm>
            <a:prstGeom prst="downArrow">
              <a:avLst>
                <a:gd name="adj1" fmla="val 50000"/>
                <a:gd name="adj2" fmla="val 4115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6659640" y="6093000"/>
            <a:ext cx="503280" cy="549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61">
                <a:moveTo>
                  <a:pt x="0" y="0"/>
                </a:moveTo>
                <a:lnTo>
                  <a:pt x="21600" y="0"/>
                </a:lnTo>
                <a:lnTo>
                  <a:pt x="21600" y="23561"/>
                </a:lnTo>
                <a:lnTo>
                  <a:pt x="0" y="23561"/>
                </a:lnTo>
                <a:close/>
              </a:path>
              <a:path fill="lightenLess" w="21600" h="235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1">
                <a:moveTo>
                  <a:pt x="21600" y="0"/>
                </a:moveTo>
                <a:lnTo>
                  <a:pt x="21600" y="23561"/>
                </a:lnTo>
                <a:lnTo>
                  <a:pt x="20200" y="22161"/>
                </a:lnTo>
                <a:lnTo>
                  <a:pt x="20200" y="1400"/>
                </a:lnTo>
                <a:close/>
              </a:path>
              <a:path fill="darkenLess" w="21600" h="23561">
                <a:moveTo>
                  <a:pt x="21600" y="23561"/>
                </a:moveTo>
                <a:lnTo>
                  <a:pt x="0" y="23561"/>
                </a:lnTo>
                <a:lnTo>
                  <a:pt x="1400" y="22161"/>
                </a:lnTo>
                <a:lnTo>
                  <a:pt x="20200" y="22161"/>
                </a:lnTo>
                <a:close/>
              </a:path>
              <a:path fill="lighten" w="21600" h="23561">
                <a:moveTo>
                  <a:pt x="0" y="235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1"/>
                </a:lnTo>
                <a:close/>
              </a:path>
              <a:path fill="darkenLess" w="21600" h="23561">
                <a:moveTo>
                  <a:pt x="5273" y="4965"/>
                </a:moveTo>
                <a:lnTo>
                  <a:pt x="12271" y="4965"/>
                </a:lnTo>
                <a:lnTo>
                  <a:pt x="16327" y="8464"/>
                </a:lnTo>
                <a:lnTo>
                  <a:pt x="16327" y="18595"/>
                </a:lnTo>
                <a:lnTo>
                  <a:pt x="5273" y="18595"/>
                </a:lnTo>
                <a:close/>
              </a:path>
              <a:path fill="darken" w="21600" h="23561">
                <a:moveTo>
                  <a:pt x="12271" y="4965"/>
                </a:moveTo>
                <a:lnTo>
                  <a:pt x="16327" y="8464"/>
                </a:lnTo>
                <a:lnTo>
                  <a:pt x="12271" y="846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7956720" y="6093000"/>
            <a:ext cx="502920" cy="549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78">
                <a:moveTo>
                  <a:pt x="0" y="0"/>
                </a:moveTo>
                <a:lnTo>
                  <a:pt x="21600" y="0"/>
                </a:lnTo>
                <a:lnTo>
                  <a:pt x="21600" y="23578"/>
                </a:lnTo>
                <a:lnTo>
                  <a:pt x="0" y="23578"/>
                </a:lnTo>
                <a:close/>
              </a:path>
              <a:path fill="lightenLess" w="21600" h="23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8">
                <a:moveTo>
                  <a:pt x="21600" y="0"/>
                </a:moveTo>
                <a:lnTo>
                  <a:pt x="21600" y="23578"/>
                </a:lnTo>
                <a:lnTo>
                  <a:pt x="20200" y="22178"/>
                </a:lnTo>
                <a:lnTo>
                  <a:pt x="20200" y="1400"/>
                </a:lnTo>
                <a:close/>
              </a:path>
              <a:path fill="darkenLess" w="21600" h="23578">
                <a:moveTo>
                  <a:pt x="21600" y="23578"/>
                </a:moveTo>
                <a:lnTo>
                  <a:pt x="0" y="23578"/>
                </a:lnTo>
                <a:lnTo>
                  <a:pt x="1400" y="22178"/>
                </a:lnTo>
                <a:lnTo>
                  <a:pt x="20200" y="22178"/>
                </a:lnTo>
                <a:close/>
              </a:path>
              <a:path fill="lighten" w="21600" h="23578">
                <a:moveTo>
                  <a:pt x="0" y="23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8"/>
                </a:lnTo>
                <a:close/>
              </a:path>
              <a:path fill="darkenLess" w="21600" h="23578">
                <a:moveTo>
                  <a:pt x="5273" y="4974"/>
                </a:moveTo>
                <a:lnTo>
                  <a:pt x="12271" y="4974"/>
                </a:lnTo>
                <a:lnTo>
                  <a:pt x="16327" y="8473"/>
                </a:lnTo>
                <a:lnTo>
                  <a:pt x="16327" y="18604"/>
                </a:lnTo>
                <a:lnTo>
                  <a:pt x="5273" y="18604"/>
                </a:lnTo>
                <a:close/>
              </a:path>
              <a:path fill="darken" w="21600" h="23578">
                <a:moveTo>
                  <a:pt x="12271" y="4974"/>
                </a:moveTo>
                <a:lnTo>
                  <a:pt x="16327" y="8473"/>
                </a:lnTo>
                <a:lnTo>
                  <a:pt x="12271" y="847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483160" y="3387600"/>
            <a:ext cx="639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80000" y="2708280"/>
            <a:ext cx="92160" cy="0"/>
          </a:xfrm>
          <a:prstGeom prst="line">
            <a:avLst/>
          </a:prstGeom>
          <a:ln w="1015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76600" y="2403360"/>
            <a:ext cx="2376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48360" y="2135160"/>
            <a:ext cx="219240" cy="996840"/>
          </a:xfrm>
          <a:custGeom>
            <a:avLst/>
            <a:gdLst/>
            <a:ahLst/>
            <a:rect l="l" t="t" r="r" b="b"/>
            <a:pathLst>
              <a:path w="344" h="1570">
                <a:moveTo>
                  <a:pt x="251" y="82"/>
                </a:moveTo>
                <a:cubicBezTo>
                  <a:pt x="197" y="2"/>
                  <a:pt x="149" y="0"/>
                  <a:pt x="71" y="52"/>
                </a:cubicBezTo>
                <a:cubicBezTo>
                  <a:pt x="31" y="172"/>
                  <a:pt x="47" y="302"/>
                  <a:pt x="26" y="427"/>
                </a:cubicBezTo>
                <a:cubicBezTo>
                  <a:pt x="12" y="839"/>
                  <a:pt x="0" y="819"/>
                  <a:pt x="26" y="1177"/>
                </a:cubicBezTo>
                <a:cubicBezTo>
                  <a:pt x="35" y="1297"/>
                  <a:pt x="36" y="1283"/>
                  <a:pt x="71" y="1387"/>
                </a:cubicBezTo>
                <a:cubicBezTo>
                  <a:pt x="76" y="1402"/>
                  <a:pt x="86" y="1432"/>
                  <a:pt x="86" y="1432"/>
                </a:cubicBezTo>
                <a:cubicBezTo>
                  <a:pt x="92" y="1474"/>
                  <a:pt x="77" y="1558"/>
                  <a:pt x="146" y="1567"/>
                </a:cubicBezTo>
                <a:cubicBezTo>
                  <a:pt x="171" y="1570"/>
                  <a:pt x="196" y="1557"/>
                  <a:pt x="221" y="1552"/>
                </a:cubicBezTo>
                <a:cubicBezTo>
                  <a:pt x="290" y="1449"/>
                  <a:pt x="270" y="1496"/>
                  <a:pt x="296" y="1417"/>
                </a:cubicBezTo>
                <a:cubicBezTo>
                  <a:pt x="312" y="1039"/>
                  <a:pt x="344" y="633"/>
                  <a:pt x="251" y="262"/>
                </a:cubicBezTo>
                <a:cubicBezTo>
                  <a:pt x="246" y="217"/>
                  <a:pt x="236" y="172"/>
                  <a:pt x="236" y="127"/>
                </a:cubicBezTo>
                <a:cubicBezTo>
                  <a:pt x="236" y="111"/>
                  <a:pt x="251" y="82"/>
                  <a:pt x="251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75240" y="2381400"/>
            <a:ext cx="2651040" cy="1295280"/>
          </a:xfrm>
          <a:custGeom>
            <a:avLst/>
            <a:gdLst/>
            <a:ahLst/>
            <a:rect l="l" t="t" r="r" b="b"/>
            <a:pathLst>
              <a:path w="4176" h="2040">
                <a:moveTo>
                  <a:pt x="0" y="480"/>
                </a:moveTo>
                <a:cubicBezTo>
                  <a:pt x="288" y="396"/>
                  <a:pt x="576" y="312"/>
                  <a:pt x="720" y="336"/>
                </a:cubicBezTo>
                <a:cubicBezTo>
                  <a:pt x="864" y="360"/>
                  <a:pt x="768" y="360"/>
                  <a:pt x="864" y="624"/>
                </a:cubicBezTo>
                <a:cubicBezTo>
                  <a:pt x="960" y="888"/>
                  <a:pt x="1200" y="1800"/>
                  <a:pt x="1296" y="1920"/>
                </a:cubicBezTo>
                <a:cubicBezTo>
                  <a:pt x="1392" y="2040"/>
                  <a:pt x="1416" y="1560"/>
                  <a:pt x="1440" y="1344"/>
                </a:cubicBezTo>
                <a:cubicBezTo>
                  <a:pt x="1464" y="1128"/>
                  <a:pt x="1392" y="768"/>
                  <a:pt x="1440" y="624"/>
                </a:cubicBezTo>
                <a:cubicBezTo>
                  <a:pt x="1488" y="480"/>
                  <a:pt x="1440" y="576"/>
                  <a:pt x="1728" y="480"/>
                </a:cubicBezTo>
                <a:cubicBezTo>
                  <a:pt x="2016" y="384"/>
                  <a:pt x="2760" y="96"/>
                  <a:pt x="3168" y="48"/>
                </a:cubicBezTo>
                <a:cubicBezTo>
                  <a:pt x="3576" y="0"/>
                  <a:pt x="3876" y="96"/>
                  <a:pt x="4176" y="192"/>
                </a:cubicBezTo>
              </a:path>
            </a:pathLst>
          </a:custGeom>
          <a:noFill/>
          <a:ln w="101520">
            <a:solidFill>
              <a:srgbClr val="00cc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97560" y="2565360"/>
            <a:ext cx="2732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1200" y="2987640"/>
            <a:ext cx="23763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22480" y="3699000"/>
            <a:ext cx="1112760" cy="1098360"/>
            <a:chOff x="2922480" y="3699000"/>
            <a:chExt cx="1112760" cy="1098360"/>
          </a:xfrm>
        </p:grpSpPr>
        <p:grpSp>
          <p:nvGrpSpPr>
            <p:cNvPr id="277" name=""/>
            <p:cNvGrpSpPr/>
            <p:nvPr/>
          </p:nvGrpSpPr>
          <p:grpSpPr>
            <a:xfrm>
              <a:off x="2922480" y="3699000"/>
              <a:ext cx="1112760" cy="1098360"/>
              <a:chOff x="2922480" y="3699000"/>
              <a:chExt cx="1112760" cy="1098360"/>
            </a:xfrm>
          </p:grpSpPr>
          <p:sp>
            <p:nvSpPr>
              <p:cNvPr id="278" name=""/>
              <p:cNvSpPr/>
              <p:nvPr/>
            </p:nvSpPr>
            <p:spPr>
              <a:xfrm>
                <a:off x="2922480" y="3699000"/>
                <a:ext cx="198000" cy="457560"/>
              </a:xfrm>
              <a:custGeom>
                <a:avLst/>
                <a:gdLst/>
                <a:ahLst/>
                <a:rect l="l" t="t" r="r" b="b"/>
                <a:pathLst>
                  <a:path w="312" h="720">
                    <a:moveTo>
                      <a:pt x="24" y="720"/>
                    </a:moveTo>
                    <a:cubicBezTo>
                      <a:pt x="12" y="624"/>
                      <a:pt x="0" y="528"/>
                      <a:pt x="24" y="432"/>
                    </a:cubicBezTo>
                    <a:cubicBezTo>
                      <a:pt x="48" y="336"/>
                      <a:pt x="120" y="216"/>
                      <a:pt x="168" y="144"/>
                    </a:cubicBezTo>
                    <a:cubicBezTo>
                      <a:pt x="216" y="72"/>
                      <a:pt x="288" y="24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36160" y="4339800"/>
                <a:ext cx="198000" cy="457560"/>
              </a:xfrm>
              <a:custGeom>
                <a:avLst/>
                <a:gdLst/>
                <a:ahLst/>
                <a:rect l="l" t="t" r="r" b="b"/>
                <a:pathLst>
                  <a:path w="312" h="720">
                    <a:moveTo>
                      <a:pt x="24" y="720"/>
                    </a:moveTo>
                    <a:cubicBezTo>
                      <a:pt x="12" y="624"/>
                      <a:pt x="0" y="528"/>
                      <a:pt x="24" y="432"/>
                    </a:cubicBezTo>
                    <a:cubicBezTo>
                      <a:pt x="48" y="336"/>
                      <a:pt x="120" y="216"/>
                      <a:pt x="168" y="144"/>
                    </a:cubicBezTo>
                    <a:cubicBezTo>
                      <a:pt x="216" y="72"/>
                      <a:pt x="288" y="24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21560" y="3699000"/>
                <a:ext cx="913680" cy="64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41200" y="4156560"/>
                <a:ext cx="913680" cy="64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114720" y="3993840"/>
              <a:ext cx="477720" cy="171360"/>
            </a:xfrm>
            <a:custGeom>
              <a:avLst/>
              <a:gdLst/>
              <a:ahLst/>
              <a:rect l="l" t="t" r="r" b="b"/>
              <a:pathLst>
                <a:path w="753" h="270">
                  <a:moveTo>
                    <a:pt x="0" y="120"/>
                  </a:moveTo>
                  <a:cubicBezTo>
                    <a:pt x="27" y="147"/>
                    <a:pt x="87" y="219"/>
                    <a:pt x="135" y="240"/>
                  </a:cubicBezTo>
                  <a:cubicBezTo>
                    <a:pt x="164" y="253"/>
                    <a:pt x="225" y="270"/>
                    <a:pt x="225" y="270"/>
                  </a:cubicBezTo>
                  <a:cubicBezTo>
                    <a:pt x="377" y="259"/>
                    <a:pt x="531" y="251"/>
                    <a:pt x="660" y="165"/>
                  </a:cubicBezTo>
                  <a:cubicBezTo>
                    <a:pt x="665" y="150"/>
                    <a:pt x="665" y="132"/>
                    <a:pt x="675" y="120"/>
                  </a:cubicBezTo>
                  <a:cubicBezTo>
                    <a:pt x="753" y="23"/>
                    <a:pt x="697" y="158"/>
                    <a:pt x="735" y="45"/>
                  </a:cubicBezTo>
                  <a:cubicBezTo>
                    <a:pt x="607" y="2"/>
                    <a:pt x="676" y="19"/>
                    <a:pt x="525" y="0"/>
                  </a:cubicBezTo>
                  <a:cubicBezTo>
                    <a:pt x="414" y="11"/>
                    <a:pt x="320" y="31"/>
                    <a:pt x="210" y="45"/>
                  </a:cubicBezTo>
                  <a:cubicBezTo>
                    <a:pt x="151" y="65"/>
                    <a:pt x="90" y="75"/>
                    <a:pt x="30" y="90"/>
                  </a:cubicBezTo>
                  <a:cubicBezTo>
                    <a:pt x="13" y="142"/>
                    <a:pt x="26" y="146"/>
                    <a:pt x="0" y="1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49520" y="3830760"/>
            <a:ext cx="1096920" cy="382320"/>
          </a:xfrm>
          <a:custGeom>
            <a:avLst/>
            <a:gdLst/>
            <a:ahLst/>
            <a:rect l="l" t="t" r="r" b="b"/>
            <a:pathLst>
              <a:path w="1728" h="600">
                <a:moveTo>
                  <a:pt x="0" y="600"/>
                </a:moveTo>
                <a:cubicBezTo>
                  <a:pt x="468" y="504"/>
                  <a:pt x="936" y="408"/>
                  <a:pt x="1152" y="312"/>
                </a:cubicBezTo>
                <a:cubicBezTo>
                  <a:pt x="1368" y="216"/>
                  <a:pt x="1200" y="48"/>
                  <a:pt x="1296" y="24"/>
                </a:cubicBezTo>
                <a:cubicBezTo>
                  <a:pt x="1392" y="0"/>
                  <a:pt x="1560" y="84"/>
                  <a:pt x="1728" y="168"/>
                </a:cubicBezTo>
              </a:path>
            </a:pathLst>
          </a:custGeom>
          <a:noFill/>
          <a:ln w="10152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08080" y="4211640"/>
            <a:ext cx="8226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93680" y="2747880"/>
            <a:ext cx="1737000" cy="21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41600" y="3114720"/>
            <a:ext cx="1096920" cy="565200"/>
          </a:xfrm>
          <a:custGeom>
            <a:avLst/>
            <a:gdLst/>
            <a:ahLst/>
            <a:rect l="l" t="t" r="r" b="b"/>
            <a:pathLst>
              <a:path w="1728" h="891">
                <a:moveTo>
                  <a:pt x="0" y="171"/>
                </a:moveTo>
                <a:lnTo>
                  <a:pt x="738" y="0"/>
                </a:lnTo>
                <a:lnTo>
                  <a:pt x="1728" y="720"/>
                </a:lnTo>
                <a:lnTo>
                  <a:pt x="1008" y="891"/>
                </a:lnTo>
                <a:lnTo>
                  <a:pt x="0" y="171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212920"/>
            <a:ext cx="1809720" cy="828720"/>
          </a:xfrm>
          <a:custGeom>
            <a:avLst/>
            <a:gdLst/>
            <a:ahLst/>
            <a:rect l="l" t="t" r="r" b="b"/>
            <a:pathLst>
              <a:path w="2850" h="1305">
                <a:moveTo>
                  <a:pt x="0" y="210"/>
                </a:moveTo>
                <a:lnTo>
                  <a:pt x="1440" y="1305"/>
                </a:lnTo>
                <a:lnTo>
                  <a:pt x="1470" y="1290"/>
                </a:lnTo>
                <a:lnTo>
                  <a:pt x="2850" y="975"/>
                </a:lnTo>
                <a:lnTo>
                  <a:pt x="2565" y="825"/>
                </a:lnTo>
                <a:lnTo>
                  <a:pt x="1950" y="960"/>
                </a:lnTo>
                <a:lnTo>
                  <a:pt x="1020" y="255"/>
                </a:lnTo>
                <a:lnTo>
                  <a:pt x="1020" y="0"/>
                </a:lnTo>
                <a:lnTo>
                  <a:pt x="0" y="21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389640" y="2655720"/>
            <a:ext cx="182520" cy="92160"/>
          </a:xfrm>
          <a:prstGeom prst="line">
            <a:avLst/>
          </a:prstGeom>
          <a:ln w="1015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73880" y="2382840"/>
            <a:ext cx="118872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84760" y="2620800"/>
            <a:ext cx="128124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11520" y="2693880"/>
            <a:ext cx="127980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37200" y="2747880"/>
            <a:ext cx="127944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2805120"/>
            <a:ext cx="1279440" cy="11872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87840" y="2878200"/>
            <a:ext cx="128088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6440" y="2655720"/>
            <a:ext cx="1919160" cy="1311480"/>
          </a:xfrm>
          <a:custGeom>
            <a:avLst/>
            <a:gdLst/>
            <a:ahLst/>
            <a:rect l="l" t="t" r="r" b="b"/>
            <a:pathLst>
              <a:path w="3024" h="2064">
                <a:moveTo>
                  <a:pt x="0" y="2016"/>
                </a:moveTo>
                <a:cubicBezTo>
                  <a:pt x="108" y="2028"/>
                  <a:pt x="216" y="2040"/>
                  <a:pt x="432" y="2016"/>
                </a:cubicBezTo>
                <a:cubicBezTo>
                  <a:pt x="648" y="1992"/>
                  <a:pt x="1320" y="2064"/>
                  <a:pt x="1296" y="1872"/>
                </a:cubicBezTo>
                <a:cubicBezTo>
                  <a:pt x="1272" y="1680"/>
                  <a:pt x="264" y="1104"/>
                  <a:pt x="288" y="864"/>
                </a:cubicBezTo>
                <a:cubicBezTo>
                  <a:pt x="312" y="624"/>
                  <a:pt x="984" y="576"/>
                  <a:pt x="1440" y="432"/>
                </a:cubicBezTo>
                <a:cubicBezTo>
                  <a:pt x="1896" y="288"/>
                  <a:pt x="2460" y="144"/>
                  <a:pt x="3024" y="0"/>
                </a:cubicBezTo>
              </a:path>
            </a:pathLst>
          </a:custGeom>
          <a:noFill/>
          <a:ln w="10152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4600" y="2932200"/>
            <a:ext cx="127980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39920" y="2987640"/>
            <a:ext cx="127980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65600" y="3043080"/>
            <a:ext cx="127944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78040" y="2347920"/>
            <a:ext cx="3436920" cy="1209600"/>
          </a:xfrm>
          <a:custGeom>
            <a:avLst/>
            <a:gdLst/>
            <a:ahLst/>
            <a:rect l="l" t="t" r="r" b="b"/>
            <a:pathLst>
              <a:path w="5412" h="1905">
                <a:moveTo>
                  <a:pt x="0" y="900"/>
                </a:moveTo>
                <a:lnTo>
                  <a:pt x="1440" y="1905"/>
                </a:lnTo>
                <a:lnTo>
                  <a:pt x="5412" y="1050"/>
                </a:lnTo>
                <a:lnTo>
                  <a:pt x="4005" y="0"/>
                </a:lnTo>
                <a:lnTo>
                  <a:pt x="0" y="9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7120" y="2747880"/>
            <a:ext cx="2468880" cy="2103480"/>
          </a:xfrm>
          <a:custGeom>
            <a:avLst/>
            <a:gdLst/>
            <a:ahLst/>
            <a:rect l="l" t="t" r="r" b="b"/>
            <a:pathLst>
              <a:path w="3888" h="3312">
                <a:moveTo>
                  <a:pt x="3888" y="0"/>
                </a:moveTo>
                <a:lnTo>
                  <a:pt x="0" y="864"/>
                </a:lnTo>
                <a:lnTo>
                  <a:pt x="0" y="3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61120" y="2563920"/>
            <a:ext cx="198360" cy="144360"/>
          </a:xfrm>
          <a:custGeom>
            <a:avLst/>
            <a:gdLst/>
            <a:ahLst/>
            <a:rect l="l" t="t" r="r" b="b"/>
            <a:pathLst>
              <a:path w="225" h="185">
                <a:moveTo>
                  <a:pt x="15" y="50"/>
                </a:moveTo>
                <a:cubicBezTo>
                  <a:pt x="10" y="65"/>
                  <a:pt x="0" y="79"/>
                  <a:pt x="0" y="95"/>
                </a:cubicBezTo>
                <a:cubicBezTo>
                  <a:pt x="0" y="156"/>
                  <a:pt x="60" y="170"/>
                  <a:pt x="105" y="185"/>
                </a:cubicBezTo>
                <a:cubicBezTo>
                  <a:pt x="164" y="165"/>
                  <a:pt x="190" y="147"/>
                  <a:pt x="225" y="95"/>
                </a:cubicBezTo>
                <a:cubicBezTo>
                  <a:pt x="162" y="0"/>
                  <a:pt x="213" y="50"/>
                  <a:pt x="15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9900000">
            <a:off x="4204800" y="4268520"/>
            <a:ext cx="1185840" cy="274680"/>
          </a:xfrm>
          <a:custGeom>
            <a:avLst/>
            <a:gdLst>
              <a:gd name="textAreaLeft" fmla="*/ 185040 w 1185840"/>
              <a:gd name="textAreaRight" fmla="*/ 1155600 w 1185840"/>
              <a:gd name="textAreaTop" fmla="*/ 101160 h 274680"/>
              <a:gd name="textAreaBottom" fmla="*/ 17352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7954"/>
                </a:moveTo>
                <a:lnTo>
                  <a:pt x="19497" y="7954"/>
                </a:lnTo>
                <a:lnTo>
                  <a:pt x="19497" y="0"/>
                </a:lnTo>
                <a:lnTo>
                  <a:pt x="21600" y="10800"/>
                </a:lnTo>
                <a:lnTo>
                  <a:pt x="19497" y="21600"/>
                </a:lnTo>
                <a:lnTo>
                  <a:pt x="19497" y="13646"/>
                </a:lnTo>
                <a:lnTo>
                  <a:pt x="3375" y="13646"/>
                </a:lnTo>
                <a:close/>
              </a:path>
              <a:path w="21600" h="21600">
                <a:moveTo>
                  <a:pt x="0" y="7954"/>
                </a:moveTo>
                <a:lnTo>
                  <a:pt x="675" y="7954"/>
                </a:lnTo>
                <a:lnTo>
                  <a:pt x="675" y="13646"/>
                </a:lnTo>
                <a:lnTo>
                  <a:pt x="0" y="13646"/>
                </a:lnTo>
                <a:close/>
              </a:path>
              <a:path w="21600" h="21600">
                <a:moveTo>
                  <a:pt x="1350" y="7954"/>
                </a:moveTo>
                <a:lnTo>
                  <a:pt x="2700" y="7954"/>
                </a:lnTo>
                <a:lnTo>
                  <a:pt x="2700" y="13646"/>
                </a:lnTo>
                <a:lnTo>
                  <a:pt x="1350" y="136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20612400">
            <a:off x="4754160" y="4120920"/>
            <a:ext cx="25092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4292640"/>
            <a:ext cx="131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phoï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6160" y="4759200"/>
            <a:ext cx="20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fle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38680" y="4484520"/>
            <a:ext cx="2376360" cy="960480"/>
          </a:xfrm>
          <a:custGeom>
            <a:avLst/>
            <a:gdLst/>
            <a:ahLst/>
            <a:rect l="l" t="t" r="r" b="b"/>
            <a:pathLst>
              <a:path w="2448" h="1152">
                <a:moveTo>
                  <a:pt x="0" y="0"/>
                </a:moveTo>
                <a:lnTo>
                  <a:pt x="720" y="1152"/>
                </a:lnTo>
                <a:lnTo>
                  <a:pt x="2448" y="1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12960" y="5564160"/>
            <a:ext cx="234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one de réception des bo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97240" y="5013360"/>
            <a:ext cx="2449440" cy="1224000"/>
          </a:xfrm>
          <a:custGeom>
            <a:avLst/>
            <a:gdLst/>
            <a:ahLst/>
            <a:rect l="l" t="t" r="r" b="b"/>
            <a:pathLst>
              <a:path w="2736" h="1584">
                <a:moveTo>
                  <a:pt x="2736" y="1584"/>
                </a:moveTo>
                <a:lnTo>
                  <a:pt x="576" y="158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523800"/>
            <a:ext cx="5113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écanteur lamel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18320" y="3284640"/>
            <a:ext cx="1512720" cy="1657080"/>
          </a:xfrm>
          <a:custGeom>
            <a:avLst/>
            <a:gdLst/>
            <a:ahLst/>
            <a:rect l="l" t="t" r="r" b="b"/>
            <a:pathLst>
              <a:path w="2736" h="1584">
                <a:moveTo>
                  <a:pt x="2736" y="1584"/>
                </a:moveTo>
                <a:lnTo>
                  <a:pt x="576" y="158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7524720" y="5805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5029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13183" y="3794"/>
                </a:lnTo>
                <a:lnTo>
                  <a:pt x="13183" y="17806"/>
                </a:lnTo>
                <a:lnTo>
                  <a:pt x="11521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93960" y="2505240"/>
            <a:ext cx="503280" cy="1931760"/>
          </a:xfrm>
          <a:custGeom>
            <a:avLst/>
            <a:gdLst/>
            <a:ahLst/>
            <a:rect l="l" t="t" r="r" b="b"/>
            <a:pathLst>
              <a:path w="272" h="1232">
                <a:moveTo>
                  <a:pt x="0" y="83"/>
                </a:moveTo>
                <a:cubicBezTo>
                  <a:pt x="30" y="79"/>
                  <a:pt x="60" y="76"/>
                  <a:pt x="90" y="83"/>
                </a:cubicBezTo>
                <a:cubicBezTo>
                  <a:pt x="120" y="90"/>
                  <a:pt x="166" y="0"/>
                  <a:pt x="181" y="128"/>
                </a:cubicBezTo>
                <a:cubicBezTo>
                  <a:pt x="196" y="256"/>
                  <a:pt x="181" y="680"/>
                  <a:pt x="181" y="854"/>
                </a:cubicBezTo>
                <a:cubicBezTo>
                  <a:pt x="181" y="1028"/>
                  <a:pt x="166" y="1112"/>
                  <a:pt x="181" y="1172"/>
                </a:cubicBezTo>
                <a:cubicBezTo>
                  <a:pt x="196" y="1232"/>
                  <a:pt x="257" y="1210"/>
                  <a:pt x="272" y="1217"/>
                </a:cubicBezTo>
              </a:path>
            </a:pathLst>
          </a:custGeom>
          <a:noFill/>
          <a:ln w="10152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2637000"/>
            <a:ext cx="2746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H="1">
            <a:off x="826920" y="5805360"/>
            <a:ext cx="2881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8360" y="4221000"/>
            <a:ext cx="71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53280" y="4827600"/>
            <a:ext cx="360" cy="9064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53280" y="5734080"/>
            <a:ext cx="8319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22600" y="5081760"/>
            <a:ext cx="360" cy="152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40240" y="5229360"/>
            <a:ext cx="2654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26920" y="5084640"/>
            <a:ext cx="360" cy="720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26920" y="2707560"/>
            <a:ext cx="360" cy="1873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36000" y="479736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00720" y="4797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94520" y="4797360"/>
            <a:ext cx="158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7093080" y="4797360"/>
            <a:ext cx="1440" cy="432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08360" y="5229360"/>
            <a:ext cx="719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5084640"/>
            <a:ext cx="57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2708280"/>
            <a:ext cx="360" cy="2736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4221000"/>
            <a:ext cx="8650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68360" y="5084640"/>
            <a:ext cx="7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4221000"/>
            <a:ext cx="7192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3280" y="4653000"/>
            <a:ext cx="936360" cy="863640"/>
          </a:xfrm>
          <a:custGeom>
            <a:avLst/>
            <a:gdLst>
              <a:gd name="textAreaLeft" fmla="*/ -360 w 936360"/>
              <a:gd name="textAreaRight" fmla="*/ 936360 w 93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859280" y="2347920"/>
            <a:ext cx="3025800" cy="1081080"/>
            <a:chOff x="4859280" y="2347920"/>
            <a:chExt cx="3025800" cy="1081080"/>
          </a:xfrm>
        </p:grpSpPr>
        <p:grpSp>
          <p:nvGrpSpPr>
            <p:cNvPr id="336" name=""/>
            <p:cNvGrpSpPr/>
            <p:nvPr/>
          </p:nvGrpSpPr>
          <p:grpSpPr>
            <a:xfrm>
              <a:off x="4932360" y="2708280"/>
              <a:ext cx="2808360" cy="720720"/>
              <a:chOff x="4932360" y="2708280"/>
              <a:chExt cx="2808360" cy="720720"/>
            </a:xfrm>
          </p:grpSpPr>
          <p:sp>
            <p:nvSpPr>
              <p:cNvPr id="337" name=""/>
              <p:cNvSpPr/>
              <p:nvPr/>
            </p:nvSpPr>
            <p:spPr>
              <a:xfrm>
                <a:off x="493236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908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0544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4072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859280" y="2347920"/>
              <a:ext cx="30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atières graisseu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703880" y="4054680"/>
            <a:ext cx="1194480" cy="1197720"/>
            <a:chOff x="1703880" y="4054680"/>
            <a:chExt cx="1194480" cy="1197720"/>
          </a:xfrm>
        </p:grpSpPr>
        <p:sp>
          <p:nvSpPr>
            <p:cNvPr id="343" name=""/>
            <p:cNvSpPr/>
            <p:nvPr/>
          </p:nvSpPr>
          <p:spPr>
            <a:xfrm flipH="1" flipV="1" rot="19454400">
              <a:off x="1940040" y="44208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 rot="19454400">
              <a:off x="2009880" y="43704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 rot="19454400">
              <a:off x="2077200" y="431928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 rot="19454400">
              <a:off x="2146320" y="427212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 rot="19454400">
              <a:off x="2215080" y="4220640"/>
              <a:ext cx="17172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 rot="19454400">
              <a:off x="2284200" y="4170600"/>
              <a:ext cx="1713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 rot="19454400">
              <a:off x="2355120" y="412056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19454400">
              <a:off x="2423880" y="407304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 rot="19454400">
              <a:off x="2492280" y="40230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rot="2029800">
            <a:off x="1547280" y="4149720"/>
            <a:ext cx="287640" cy="792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900000" y="5445000"/>
            <a:ext cx="935280" cy="216000"/>
          </a:xfrm>
          <a:custGeom>
            <a:avLst/>
            <a:gdLst>
              <a:gd name="textAreaLeft" fmla="*/ 163440 w 935280"/>
              <a:gd name="textAreaRight" fmla="*/ 678240 w 93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2708280"/>
            <a:ext cx="712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9280" y="5229360"/>
            <a:ext cx="649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484360" y="5516640"/>
            <a:ext cx="935280" cy="216000"/>
          </a:xfrm>
          <a:custGeom>
            <a:avLst/>
            <a:gdLst>
              <a:gd name="textAreaLeft" fmla="*/ 163440 w 935280"/>
              <a:gd name="textAreaRight" fmla="*/ 678240 w 93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221000"/>
            <a:ext cx="576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4508640"/>
            <a:ext cx="5158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08360" y="4653000"/>
            <a:ext cx="360" cy="115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029800">
            <a:off x="3492000" y="4653000"/>
            <a:ext cx="287640" cy="792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08360" y="4221000"/>
            <a:ext cx="719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7640" y="2708280"/>
            <a:ext cx="360" cy="19144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00720" y="3645000"/>
            <a:ext cx="360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350200">
            <a:off x="6337080" y="3500280"/>
            <a:ext cx="215640" cy="8654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72000" y="3645000"/>
            <a:ext cx="2663280" cy="1441440"/>
            <a:chOff x="4572000" y="3645000"/>
            <a:chExt cx="2663280" cy="1441440"/>
          </a:xfrm>
        </p:grpSpPr>
        <p:grpSp>
          <p:nvGrpSpPr>
            <p:cNvPr id="366" name=""/>
            <p:cNvGrpSpPr/>
            <p:nvPr/>
          </p:nvGrpSpPr>
          <p:grpSpPr>
            <a:xfrm>
              <a:off x="6195240" y="3645000"/>
              <a:ext cx="1040040" cy="505080"/>
              <a:chOff x="6195240" y="3645000"/>
              <a:chExt cx="1040040" cy="505080"/>
            </a:xfrm>
          </p:grpSpPr>
          <p:sp>
            <p:nvSpPr>
              <p:cNvPr id="367" name=""/>
              <p:cNvSpPr/>
              <p:nvPr/>
            </p:nvSpPr>
            <p:spPr>
              <a:xfrm>
                <a:off x="6195240" y="3718080"/>
                <a:ext cx="149040" cy="21600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493320" y="3943440"/>
                <a:ext cx="602640" cy="20664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7096320" y="3718080"/>
                <a:ext cx="65160" cy="225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195240" y="3718080"/>
                <a:ext cx="966240" cy="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70480" y="3645000"/>
                <a:ext cx="9648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V="1">
              <a:off x="4572000" y="3933360"/>
              <a:ext cx="1772640" cy="9097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677120" y="4169160"/>
              <a:ext cx="1816560" cy="917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9870800">
            <a:off x="4697280" y="4581000"/>
            <a:ext cx="1152720" cy="142920"/>
          </a:xfrm>
          <a:prstGeom prst="leftArrow">
            <a:avLst>
              <a:gd name="adj1" fmla="val 50000"/>
              <a:gd name="adj2" fmla="val 2016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4653000"/>
            <a:ext cx="1429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27640" y="3573360"/>
            <a:ext cx="3673440" cy="7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01080" y="2923560"/>
            <a:ext cx="360" cy="28098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635280" y="4292640"/>
            <a:ext cx="4105440" cy="2168640"/>
            <a:chOff x="3635280" y="4292640"/>
            <a:chExt cx="4105440" cy="2168640"/>
          </a:xfrm>
        </p:grpSpPr>
        <p:sp>
          <p:nvSpPr>
            <p:cNvPr id="379" name=""/>
            <p:cNvSpPr/>
            <p:nvPr/>
          </p:nvSpPr>
          <p:spPr>
            <a:xfrm flipV="1">
              <a:off x="5651640" y="4292640"/>
              <a:ext cx="28872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5280" y="6093000"/>
              <a:ext cx="41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s articulé écrémeur de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703880" y="4054680"/>
            <a:ext cx="1194480" cy="1197720"/>
            <a:chOff x="1703880" y="4054680"/>
            <a:chExt cx="1194480" cy="1197720"/>
          </a:xfrm>
        </p:grpSpPr>
        <p:sp>
          <p:nvSpPr>
            <p:cNvPr id="382" name=""/>
            <p:cNvSpPr/>
            <p:nvPr/>
          </p:nvSpPr>
          <p:spPr>
            <a:xfrm flipH="1" flipV="1" rot="19454400">
              <a:off x="1940040" y="44208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 rot="19454400">
              <a:off x="2009880" y="43704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 rot="19454400">
              <a:off x="2077200" y="431928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 rot="19454400">
              <a:off x="2146320" y="427212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 rot="19454400">
              <a:off x="2215080" y="4220640"/>
              <a:ext cx="17172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454400">
              <a:off x="2284200" y="4170600"/>
              <a:ext cx="1713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19454400">
              <a:off x="2355120" y="412056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 rot="19454400">
              <a:off x="2423880" y="407304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 rot="19454400">
              <a:off x="2492280" y="40230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4360" y="5013000"/>
            <a:ext cx="2447640" cy="1577880"/>
            <a:chOff x="684360" y="5013000"/>
            <a:chExt cx="2447640" cy="1577880"/>
          </a:xfrm>
        </p:grpSpPr>
        <p:sp>
          <p:nvSpPr>
            <p:cNvPr id="392" name=""/>
            <p:cNvSpPr/>
            <p:nvPr/>
          </p:nvSpPr>
          <p:spPr>
            <a:xfrm>
              <a:off x="684360" y="622260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apture des hu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908000" y="5013000"/>
              <a:ext cx="431640" cy="12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84360" y="4869000"/>
            <a:ext cx="3024000" cy="1750320"/>
            <a:chOff x="684360" y="4869000"/>
            <a:chExt cx="3024000" cy="1750320"/>
          </a:xfrm>
        </p:grpSpPr>
        <p:sp>
          <p:nvSpPr>
            <p:cNvPr id="395" name=""/>
            <p:cNvSpPr/>
            <p:nvPr/>
          </p:nvSpPr>
          <p:spPr>
            <a:xfrm flipV="1">
              <a:off x="2197080" y="4869000"/>
              <a:ext cx="216000" cy="13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4360" y="625104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llule nid d’abei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 rot="16200000">
            <a:off x="2376360" y="490500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9080" y="1268280"/>
            <a:ext cx="2448000" cy="505080"/>
          </a:xfrm>
          <a:prstGeom prst="rightArrow">
            <a:avLst>
              <a:gd name="adj1" fmla="val 50000"/>
              <a:gd name="adj2" fmla="val 1211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38920" y="1390680"/>
            <a:ext cx="22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assin de déca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4991400" y="84852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can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966920" y="729720"/>
            <a:ext cx="1297080" cy="503280"/>
          </a:xfrm>
          <a:prstGeom prst="rightArrow">
            <a:avLst>
              <a:gd name="adj1" fmla="val 50000"/>
              <a:gd name="adj2" fmla="val 64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4360" y="955800"/>
            <a:ext cx="3958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éshuileur et écré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2708280"/>
            <a:ext cx="35625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75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ssé en ter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1628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56720" y="6021360"/>
            <a:ext cx="863280" cy="503280"/>
          </a:xfrm>
          <a:custGeom>
            <a:avLst/>
            <a:gdLst>
              <a:gd name="textAreaLeft" fmla="*/ 32400 w 863280"/>
              <a:gd name="textAreaRight" fmla="*/ 830880 w 86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40" h="21600">
                <a:moveTo>
                  <a:pt x="0" y="0"/>
                </a:moveTo>
                <a:lnTo>
                  <a:pt x="37040" y="0"/>
                </a:lnTo>
                <a:lnTo>
                  <a:pt x="37040" y="21600"/>
                </a:lnTo>
                <a:lnTo>
                  <a:pt x="0" y="21600"/>
                </a:lnTo>
                <a:close/>
              </a:path>
              <a:path fill="lightenLess" w="37040" h="21600">
                <a:moveTo>
                  <a:pt x="0" y="0"/>
                </a:moveTo>
                <a:lnTo>
                  <a:pt x="37040" y="0"/>
                </a:lnTo>
                <a:lnTo>
                  <a:pt x="35640" y="1400"/>
                </a:lnTo>
                <a:lnTo>
                  <a:pt x="1400" y="1400"/>
                </a:lnTo>
                <a:close/>
              </a:path>
              <a:path fill="darken" w="37040" h="21600">
                <a:moveTo>
                  <a:pt x="37040" y="0"/>
                </a:moveTo>
                <a:lnTo>
                  <a:pt x="37040" y="21600"/>
                </a:lnTo>
                <a:lnTo>
                  <a:pt x="35640" y="20200"/>
                </a:lnTo>
                <a:lnTo>
                  <a:pt x="35640" y="1400"/>
                </a:lnTo>
                <a:close/>
              </a:path>
              <a:path fill="darkenLess" w="37040" h="21600">
                <a:moveTo>
                  <a:pt x="37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40" y="20200"/>
                </a:lnTo>
                <a:close/>
              </a:path>
              <a:path fill="lighten" w="37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40" h="21600">
                <a:moveTo>
                  <a:pt x="15021" y="10800"/>
                </a:moveTo>
                <a:lnTo>
                  <a:pt x="25526" y="3794"/>
                </a:lnTo>
                <a:lnTo>
                  <a:pt x="25526" y="17806"/>
                </a:lnTo>
                <a:close/>
              </a:path>
              <a:path fill="darken" w="37040" h="21600">
                <a:moveTo>
                  <a:pt x="11513" y="3794"/>
                </a:moveTo>
                <a:lnTo>
                  <a:pt x="13176" y="3794"/>
                </a:lnTo>
                <a:lnTo>
                  <a:pt x="13176" y="17806"/>
                </a:lnTo>
                <a:lnTo>
                  <a:pt x="1151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23:13Z</dcterms:created>
  <dc:creator/>
  <dc:description/>
  <dc:language>en-US</dc:language>
  <cp:lastModifiedBy>ALLOUCHES</cp:lastModifiedBy>
  <dcterms:modified xsi:type="dcterms:W3CDTF">2004-07-01T12:11:20Z</dcterms:modified>
  <cp:revision>39</cp:revision>
  <dc:subject/>
  <dc:title>Diapositive 1</dc:title>
</cp:coreProperties>
</file>